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AE0-8A99-4065-90AA-29F8890E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E97-24B6-4DB9-A9C5-4F47F082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1D0-EE91-4887-AA2C-35620E2E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564-D807-447F-81DA-73DFA36E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857-9C69-4D06-9CB1-86A66BB6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F6A-67FF-423E-A6D7-C55BC3ED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5FD-E4DD-4B6C-892F-2EA960A6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F13-9200-42CB-B8F7-CE3C3190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05F-C4BF-4136-8BC1-CFB3AFAC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A9E-7A39-40AB-B5D1-3160ED8E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4CD-6D45-4790-B964-75AC2F1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71D-BF39-4C08-91EB-9B5E0C0C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FBCD-3CAD-4B56-9A05-054266ACB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lack majority finally g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rol of the government,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lson Mandela became the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der in South 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e government change in South Africa after apartheid was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i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lds longest river is located in Africa, what is it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population is when th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more people than avail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ourc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ver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acial segregation tha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ing on in South Africa. 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 minority had control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par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sai, Turkana, Samburu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ikiyu, , Pokot, L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name 3 of the 6 tribes we learned about in Ken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Most people in Norther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Musl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ern Africa is mostly dese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ern Africa has a large quant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oi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any differences between northern Africa and Sub Saharan Africa, please nam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2952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ass amount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ests/trees are being cut dow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efore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ld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many tribes in Kenya, what group of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considered the leaders of most of these grou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 are seen as an asset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frican communities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 will take care of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when their parents be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, daughters can be tra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the population explosion happening in Africa?  Why are children seen as an ass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 Saharan Africa.  We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ecause most of Northe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 is covered with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HARA dese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most people live in North Africa, or Sub Saharan Africa?  HOW DO YOU KNOW THIS?!?!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19810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graphy of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graphic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0"/>
            <a:ext cx="22100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om Fact Extravaganz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6002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the people of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ruining their land, they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able to use the land for farm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ey can not farm, then they wi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t be able to grow crop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re deforestation and desertification contributing to the starvation problem in Af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286000"/>
            <a:ext cx="8381880" cy="3352680"/>
          </a:xfrm>
          <a:prstGeom prst="wedgeRectCallout">
            <a:avLst>
              <a:gd name="adj1" fmla="val -19962"/>
              <a:gd name="adj2" fmla="val -13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have been the creation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arding schools to help prot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from being sold 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ves or serv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ather is usually respon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1747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Kenya many girls are sold as property, what is being done to help stop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amily member is usually responsible for trading a young daughter for materi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soldier who is hired to 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lack African 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Darf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Janjaw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304920"/>
            <a:ext cx="81532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49568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ams make your final wagers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0666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inal Jeopardy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1143000"/>
            <a:ext cx="647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Please explain the crisis in Darfur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countries exist on the continent of Af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7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orestation, Desertification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popu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ree major environmental problems are occuring in Af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981080"/>
            <a:ext cx="7467480" cy="3657600"/>
          </a:xfrm>
          <a:prstGeom prst="wedgeRectCallout">
            <a:avLst>
              <a:gd name="adj1" fmla="val -26486"/>
              <a:gd name="adj2" fmla="val -17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 woman has a lot of childr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viewed as more importa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 status incr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is contributing to over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the problem that Africa is having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V/A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38188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a woman’s status in Africa if she has a lot of child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blems is this cau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4479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mine is an extreme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l scarcity of food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ludes extreme hunger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rva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808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F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h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sert covers the northern part of Af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nd that was once fertile,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lowly becoming dese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es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being kidnapp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ir homes and used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soldi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ppening to children in Sierra Le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ecil County</cp:lastModifiedBy>
  <cp:lastPrinted>2001-01-31T16:21:13Z</cp:lastPrinted>
  <dcterms:modified xsi:type="dcterms:W3CDTF">2009-06-02T15:57:00Z</dcterms:modified>
  <cp:revision>7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